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EB256-4946-4AD0-AE38-B0C8003B29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8BD50-74DE-4077-A122-3948E3C7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767BA-B5FD-4441-925B-36A87A4C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6177A-B9A0-4E8F-8EC8-F92643E741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93E12-AB08-4B18-8096-5C562CF378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6C16D-FD1B-4984-B4ED-7D801AD5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599FB-AB51-49D1-91DA-32477910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C24F8-D5E8-411C-A787-1ABA5294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D0DD7-1823-4EF4-8769-5FD8AB2A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3C8E8-56FB-4235-9258-D181DCDF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C7966-D2C8-4BE1-A3D0-A532BCDC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779DB-90C9-4C5A-ACFC-CF55F8C5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B8DAD-BF48-4E03-992C-68820A9C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30F4C-F430-484F-A087-DC771C79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4012C-B65E-456B-BC5C-6EE9D071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BEE0F-F20D-4F42-A24E-BDF12681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4BBAB-830D-42E8-BE73-019B726AE1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58B8-FF56-42D6-B8B9-08239413EA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22C5-D17E-4B9A-B4C7-0B01F151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1385-05B9-496A-9538-345F249C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A1A8-E4DE-40C9-8A8D-D85BF865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5E66-477D-4220-9159-6F2778BC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DB91B-DC14-4078-B56A-575A9BA5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239C-E4AF-469E-BFC2-33BB92FB5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DE81-AC22-4170-9766-BC5DF020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CC1D-AAF9-4922-8C71-5F501A52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69A4-82AA-4EF6-92E7-D4CECCA3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1AD1-E332-4EF7-BBDC-6C24B44A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FB4E-326A-42AB-B0C3-D75F3306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09F5-F1A5-4E10-8F4F-96C48C3195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0879A-776A-42D1-B39C-9004ED4D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12820-C11B-425E-A95A-C3BF0FA5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02279-8428-42FC-B344-383A9E49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C7FF2-991F-4648-9FB4-3F19C4CA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DA8CF-D3BC-404A-BBEC-BA504046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05FD-1BD9-4CD7-A283-F364D8BA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67656-8E42-4C8E-B683-60B8AB00C8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66860C-C7CD-4D7B-83D2-35DAF4BF17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87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484E46-9218-486A-B171-42FAE56DD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2" descr="illettrisme_couv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3"/>
          <p:cNvSpPr/>
          <p:nvPr/>
        </p:nvSpPr>
        <p:spPr>
          <a:xfrm>
            <a:off x="4043520" y="3306600"/>
            <a:ext cx="10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3"/>
          <p:cNvSpPr/>
          <p:nvPr/>
        </p:nvSpPr>
        <p:spPr>
          <a:xfrm>
            <a:off x="7786800" y="6458040"/>
            <a:ext cx="11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LA DEMARCHE DES ACTIONS EDUCATIVES FAMILIALES</a:t>
            </a: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76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ENSIBILISER LES PROFESSIONNEL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QUOI PARLE-T-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BB27AB-93CF-44A6-A8AE-EC1B1FF1BA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Illettrisme : de quoi parle-t-on ?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d’illettr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 adulte qui a été scolarisé en France et qui n’a pas acquis une maîtrise suffisante des compétences de base pour être autonome dans les situations simples de la vie cour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’analphabét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n’a jamais (ou très peu) été scolarisée, en France ou aill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e Français langue étrangère (FLE)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a été scolarisée dans un autre pays et qui ne maîtrise pas la langue frança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366E90-8370-43A1-B2AE-C5291BA41B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c00000"/>
                </a:solidFill>
                <a:latin typeface="Calibri"/>
              </a:rPr>
              <a:t>Combien de personnes concernées ?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8760" y="2491920"/>
            <a:ext cx="526104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2,5 millions de personne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ésultats enquête IVQ – INSEE –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4,4 % des jeunes de 17 an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 (métropole et DOM)</a:t>
            </a:r>
            <a:r>
              <a:rPr b="0" lang="fr-FR" sz="2000" spc="-1" strike="noStrike">
                <a:solidFill>
                  <a:srgbClr val="1f497d"/>
                </a:solidFill>
                <a:latin typeface="Calibri"/>
              </a:rPr>
              <a:t>, soit 32 267 jeu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Journée Défense et Citoyenneté 20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4" descr="couv_brochure"/>
          <p:cNvPicPr/>
          <p:nvPr/>
        </p:nvPicPr>
        <p:blipFill>
          <a:blip r:embed="rId1"/>
          <a:stretch/>
        </p:blipFill>
        <p:spPr>
          <a:xfrm>
            <a:off x="5692680" y="1600200"/>
            <a:ext cx="3143520" cy="430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168F00-A288-4A56-BE09-FFECA748A4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pourquoi ?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640" y="1829880"/>
            <a:ext cx="856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mi les 2,5 millions de personnes confrontées à l’illettrisme en France, on compte de nombreux parents et grands-parent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ont beaucoup de difficultés à accompagner la scolarité de leurs enfants (et petits-enfants), à leur transmettre le goût de la lecture, l’appétit d’apprendre, le plaisir des liv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sont gênés dans le contact, la communication et les relations avec les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rencontrent des difficultés pour s’insérer socialement et professionnel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8D4D50-E734-4F1A-BE20-0FACE97B1F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s enjeux au service de la réussite éducative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9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nsibiliser les professionnels intervenant en milieu « populaire »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à la problématique de l’illettrisme et à ses conséquences en matière de parenta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ener les professionnels 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ajuster leurs pratiqu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travailler avec c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ettre les parents en confiance et les mobiliser sur les apprentissages « de base »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ciliter leur autonomie et leur propre développement personn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ribuer à la prévention des difficultés de leurs enf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2D732-909C-4C1E-9673-5977FCC12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741320"/>
            <a:ext cx="822960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On distingue trois « paliers » constitutifs de la démarche AEF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Premier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sensibilisation / formation des acteurs professionnels aux thématiques liées à l’illettrisme et particulièrement à la parentalité en situation d’illettris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eux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orientation vers une réponse de formation dite de « droit commun 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Trois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réponse spécifique de formation à visée parenta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oneTexte 3"/>
          <p:cNvSpPr/>
          <p:nvPr/>
        </p:nvSpPr>
        <p:spPr>
          <a:xfrm>
            <a:off x="225360" y="139680"/>
            <a:ext cx="87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S’inscrire dans la démarche AEF: c’est possible quel que soit le point de départ, ça se construit étape après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CFA6A-A594-453E-B9D8-3229C263A3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 : « La démarche familles » de l’AFEV Nanter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orientation vers une réponse de formation dite de « droit commun» (réponse de palier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bilisation des parents dont les enfants participent au dispositif « Accompagnement vers la lectur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5 manifestations durant l’année scolaire : Noël + 3 ateliers contes + 1 spectacle de contes avec une compagnie de théâ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contres entre les acteurs de l’AFEV des Hauts de Seine et les parents, à l’occasion de la distribution en porte-à-porte, chaque mois, du Journal des Familles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(Les parents potentiellement en situation d’illettrisme peuvent ensuite être accompagnés dans une démarche de form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E5AF48-C6DB-49DC-855F-ABF6BC6D71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 </a:t>
            </a:r>
            <a:br>
              <a:rPr sz="3600"/>
            </a:b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’action du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RETA de Châlons-sur-Saô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réponse spécifique de formation à visée parentale (réponse de palier 3), autour de trois dimension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e action de prévention de l’illettrisme dès l’enf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 accompagnement social et culturel des parents (place de chacun des parents, confiance dans leur capacité éducative, relation parents/enfants, éduc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développement des compétences clés des adult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oir le film réalisé au GR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2084B-70D4-45B4-BE9E-F58E52C96F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8:01:17Z</dcterms:created>
  <dc:creator>Bruno LEFEBVRE</dc:creator>
  <dc:description/>
  <dc:language>en-US</dc:language>
  <cp:lastModifiedBy>Utilisateur</cp:lastModifiedBy>
  <dcterms:modified xsi:type="dcterms:W3CDTF">2013-11-08T18:06:55Z</dcterms:modified>
  <cp:revision>28</cp:revision>
  <dc:subject/>
  <dc:title>Présentation PowerPoint</dc:title>
</cp:coreProperties>
</file>