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DEC0E5-4D69-4DC3-A2F6-59114D694AA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18B6EE-6BD8-4AA7-A8C8-207E3CABC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69ED11-E159-4024-8B7D-D683E0063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FFA7EB-CAC0-45EE-873A-2DA2679BD57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51AC99-3907-4777-8A4E-F7B3953BAE6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5DDB4A-4FF7-4EE3-9BA9-91AE0C612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0C0DBB-5C1B-4155-9067-B9C510678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70B819-1B13-4895-9C0C-751D529A8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761F96-6B18-400B-8B89-7F85241F4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1DE809-CB3A-4C01-BEA9-595FCB6C2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ACB988-A40B-4069-81F6-A167EB50C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F9CAF4-0C3A-4B2E-BB1B-17DE41ACF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2D597E-E06B-4C83-8BE8-978713AA1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A09145-EF72-468D-8EE8-B566A0F3C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049951-50C3-4F6A-8F7B-4C754404A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3A5ED5-F197-45BF-8651-49F3D26CF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6B45E5-DE52-4BE5-A9E1-2C4D4DA01B7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49817-37D4-4C56-B432-5A1846464A4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58368-C4EE-4846-80EC-DB8EB67F5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B8EA5-B5C9-4CCD-AF0F-C57774BF7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71391-0132-4A2C-AB57-18CF063CF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6D0A6-1B4C-4719-8491-62BE0D285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F0EC0F-6CE2-4CAF-8C6F-2496D816A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C3ADB-BC33-47D0-B968-1A265C3AD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27AAE-7FB4-434D-8038-5CCB40FB1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E369C-2FDB-4E99-9F8B-2C620667D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E6E0D-48DC-4941-A666-33D10D368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120D4-F053-40A7-9686-F0E0E42ED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0DC77-83C4-4574-9BD8-A898E8B0C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FC647-0A04-43E9-A593-6F24F4A7C00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C01429-ED07-45AF-99AD-EAAB0814C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6AE451-CB14-478F-B87F-8C0B33FDE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B0BBE4-A244-4F5C-8417-D3A2C24FE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819E1F-5215-4109-B624-A37A05911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457238-8F1A-4CFE-BCC4-38251297D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D6FFDC-506F-43A5-8E4F-ACFEFB258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484520" y="6356520"/>
            <a:ext cx="1393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14.11.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588080" y="6356520"/>
            <a:ext cx="1098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53258FD-B500-4FA3-9A9E-05133152345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Connecteur droit 6"/>
          <p:cNvSpPr/>
          <p:nvPr/>
        </p:nvSpPr>
        <p:spPr>
          <a:xfrm>
            <a:off x="457200" y="1255680"/>
            <a:ext cx="8229600" cy="0"/>
          </a:xfrm>
          <a:prstGeom prst="line">
            <a:avLst/>
          </a:prstGeom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Image 4" descr="illettrisme_blocmarque_ppt.jpg"/>
          <p:cNvPicPr/>
          <p:nvPr/>
        </p:nvPicPr>
        <p:blipFill>
          <a:blip r:embed="rId2"/>
          <a:stretch/>
        </p:blipFill>
        <p:spPr>
          <a:xfrm>
            <a:off x="158760" y="6126120"/>
            <a:ext cx="3959280" cy="668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Connecteur droit 6"/>
          <p:cNvSpPr/>
          <p:nvPr/>
        </p:nvSpPr>
        <p:spPr>
          <a:xfrm>
            <a:off x="457200" y="1255680"/>
            <a:ext cx="8229600" cy="0"/>
          </a:xfrm>
          <a:prstGeom prst="line">
            <a:avLst/>
          </a:prstGeom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Image 4" descr="illettrisme_blocmarque_ppt.jpg"/>
          <p:cNvPicPr/>
          <p:nvPr/>
        </p:nvPicPr>
        <p:blipFill>
          <a:blip r:embed="rId2"/>
          <a:stretch/>
        </p:blipFill>
        <p:spPr>
          <a:xfrm>
            <a:off x="158760" y="6126120"/>
            <a:ext cx="3959280" cy="668520"/>
          </a:xfrm>
          <a:prstGeom prst="rect">
            <a:avLst/>
          </a:prstGeom>
          <a:ln w="0">
            <a:noFill/>
          </a:ln>
        </p:spPr>
      </p:pic>
      <p:sp>
        <p:nvSpPr>
          <p:cNvPr id="44" name="Connecteur droit 7"/>
          <p:cNvSpPr/>
          <p:nvPr/>
        </p:nvSpPr>
        <p:spPr>
          <a:xfrm>
            <a:off x="457200" y="1255680"/>
            <a:ext cx="8229600" cy="0"/>
          </a:xfrm>
          <a:prstGeom prst="line">
            <a:avLst/>
          </a:prstGeom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3"/>
          </p:nvPr>
        </p:nvSpPr>
        <p:spPr>
          <a:xfrm>
            <a:off x="4484520" y="6356520"/>
            <a:ext cx="1393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14.11.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4"/>
          </p:nvPr>
        </p:nvSpPr>
        <p:spPr>
          <a:xfrm>
            <a:off x="7588080" y="6356520"/>
            <a:ext cx="1098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7B00C0-175C-499A-9987-0B42DDE83A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Connecteur droit 6"/>
          <p:cNvSpPr/>
          <p:nvPr/>
        </p:nvSpPr>
        <p:spPr>
          <a:xfrm>
            <a:off x="457200" y="1255680"/>
            <a:ext cx="8229600" cy="0"/>
          </a:xfrm>
          <a:prstGeom prst="line">
            <a:avLst/>
          </a:prstGeom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Image 4" descr="illettrisme_blocmarque_ppt.jpg"/>
          <p:cNvPicPr/>
          <p:nvPr/>
        </p:nvPicPr>
        <p:blipFill>
          <a:blip r:embed="rId2"/>
          <a:stretch/>
        </p:blipFill>
        <p:spPr>
          <a:xfrm>
            <a:off x="158760" y="6126120"/>
            <a:ext cx="3959280" cy="668520"/>
          </a:xfrm>
          <a:prstGeom prst="rect">
            <a:avLst/>
          </a:prstGeom>
          <a:ln w="0">
            <a:noFill/>
          </a:ln>
        </p:spPr>
      </p:pic>
      <p:sp>
        <p:nvSpPr>
          <p:cNvPr id="87" name="Connecteur droit 7"/>
          <p:cNvSpPr/>
          <p:nvPr/>
        </p:nvSpPr>
        <p:spPr>
          <a:xfrm>
            <a:off x="457200" y="1255680"/>
            <a:ext cx="8229600" cy="0"/>
          </a:xfrm>
          <a:prstGeom prst="line">
            <a:avLst/>
          </a:prstGeom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5"/>
          </p:nvPr>
        </p:nvSpPr>
        <p:spPr>
          <a:xfrm>
            <a:off x="4484520" y="6356520"/>
            <a:ext cx="1393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14.11.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7588080" y="6356520"/>
            <a:ext cx="1098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6AA44C9-3414-49F2-BBA5-15261ED0EAC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Image 2" descr="illettrisme_couv_ppt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ZoneTexte 3"/>
          <p:cNvSpPr/>
          <p:nvPr/>
        </p:nvSpPr>
        <p:spPr>
          <a:xfrm>
            <a:off x="4043520" y="3306600"/>
            <a:ext cx="1058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Novembre 20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ZoneTexte 3"/>
          <p:cNvSpPr/>
          <p:nvPr/>
        </p:nvSpPr>
        <p:spPr>
          <a:xfrm>
            <a:off x="7786800" y="6458040"/>
            <a:ext cx="118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Novembre 20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42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200" spc="-1" strike="noStrike">
                <a:solidFill>
                  <a:srgbClr val="c00000"/>
                </a:solidFill>
                <a:latin typeface="Calibri"/>
              </a:rPr>
              <a:t>LA DEMARCHE DES ACTIONS EDUCATIVES FAMILIALES</a:t>
            </a:r>
            <a:br>
              <a:rPr sz="3200"/>
            </a:br>
            <a:r>
              <a:rPr b="1" lang="fr-FR" sz="32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276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SENSIBILISER LES PROFESSIONNELS 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DE QUOI PARLE-T-ON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Espace réservé du numéro de diapositive 4"/>
          <p:cNvSpPr/>
          <p:nvPr/>
        </p:nvSpPr>
        <p:spPr>
          <a:xfrm>
            <a:off x="7588080" y="6356520"/>
            <a:ext cx="1098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62CE0B-2012-4A27-B61D-F4456094752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Calibri"/>
              </a:rPr>
              <a:t>Illettrisme : de quoi parle-t-on ?</a:t>
            </a:r>
            <a:endParaRPr b="0" lang="en-US" sz="36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c00000"/>
                </a:solidFill>
                <a:latin typeface="Calibri"/>
              </a:rPr>
              <a:t>Situation</a:t>
            </a:r>
            <a:r>
              <a:rPr b="0" lang="fr-FR" sz="24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fr-FR" sz="2400" spc="-1" strike="noStrike">
                <a:solidFill>
                  <a:srgbClr val="c00000"/>
                </a:solidFill>
                <a:latin typeface="Calibri"/>
              </a:rPr>
              <a:t>d’illettrisme :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celle d’un adulte qui a été scolarisé en France et qui n’a pas acquis une maîtrise suffisante des compétences de base pour être autonome dans les situations simples de la vie couran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fr-FR" sz="2400" spc="-1" strike="noStrike">
                <a:solidFill>
                  <a:srgbClr val="c00000"/>
                </a:solidFill>
                <a:latin typeface="Calibri"/>
              </a:rPr>
              <a:t>Situation d’analphabétisme :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celle d’une personne qui n’a jamais (ou très peu) été scolarisée, en France ou ailleu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fr-FR" sz="2400" spc="-1" strike="noStrike">
                <a:solidFill>
                  <a:srgbClr val="c00000"/>
                </a:solidFill>
                <a:latin typeface="Calibri"/>
              </a:rPr>
              <a:t>Situation de Français langue étrangère (FLE) :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celle d’une personne qui a été scolarisée dans un autre pays et qui ne maîtrise pas la langue françai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Espace réservé du numéro de diapositive 3"/>
          <p:cNvSpPr/>
          <p:nvPr/>
        </p:nvSpPr>
        <p:spPr>
          <a:xfrm>
            <a:off x="7588080" y="6356520"/>
            <a:ext cx="1098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AB3672-EB7F-4C08-A19D-D002CCE68A1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000" spc="-1" strike="noStrike">
                <a:solidFill>
                  <a:srgbClr val="c00000"/>
                </a:solidFill>
                <a:latin typeface="Calibri"/>
              </a:rPr>
              <a:t>Combien de personnes concernées ?</a:t>
            </a: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8760" y="2491920"/>
            <a:ext cx="5261040" cy="24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000" spc="-1" strike="noStrike">
                <a:solidFill>
                  <a:srgbClr val="c00000"/>
                </a:solidFill>
                <a:latin typeface="Calibri"/>
              </a:rPr>
              <a:t>2,5 millions de personnes </a:t>
            </a:r>
            <a:r>
              <a:rPr b="1" lang="fr-FR" sz="2000" spc="-1" strike="noStrike">
                <a:solidFill>
                  <a:srgbClr val="1f497d"/>
                </a:solidFill>
                <a:latin typeface="Calibri"/>
              </a:rPr>
              <a:t>au niveau nation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Calibri"/>
              </a:rPr>
              <a:t>Résultats enquête IVQ – INSEE – 201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000" spc="-1" strike="noStrike">
                <a:solidFill>
                  <a:srgbClr val="c00000"/>
                </a:solidFill>
                <a:latin typeface="Calibri"/>
              </a:rPr>
              <a:t>4,4 % des jeunes de 17 ans </a:t>
            </a:r>
            <a:r>
              <a:rPr b="1" lang="fr-FR" sz="2000" spc="-1" strike="noStrike">
                <a:solidFill>
                  <a:srgbClr val="1f497d"/>
                </a:solidFill>
                <a:latin typeface="Calibri"/>
              </a:rPr>
              <a:t>au niveau national (métropole et DOM)</a:t>
            </a:r>
            <a:r>
              <a:rPr b="0" lang="fr-FR" sz="2000" spc="-1" strike="noStrike">
                <a:solidFill>
                  <a:srgbClr val="1f497d"/>
                </a:solidFill>
                <a:latin typeface="Calibri"/>
              </a:rPr>
              <a:t>, soit 32 267 jeune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Calibri"/>
              </a:rPr>
              <a:t>Journée Défense et Citoyenneté 2012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Picture 14" descr="couv_brochure"/>
          <p:cNvPicPr/>
          <p:nvPr/>
        </p:nvPicPr>
        <p:blipFill>
          <a:blip r:embed="rId1"/>
          <a:stretch/>
        </p:blipFill>
        <p:spPr>
          <a:xfrm>
            <a:off x="5692680" y="1600200"/>
            <a:ext cx="3143520" cy="4308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40" name="Espace réservé du numéro de diapositive 4"/>
          <p:cNvSpPr/>
          <p:nvPr/>
        </p:nvSpPr>
        <p:spPr>
          <a:xfrm>
            <a:off x="7588080" y="6356520"/>
            <a:ext cx="1098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51D1133-7831-45B0-B837-C5158DE7F39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70000" y="144000"/>
            <a:ext cx="863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Calibri"/>
              </a:rPr>
              <a:t>Les actions éducatives familiales : pourquoi ? </a:t>
            </a:r>
            <a:endParaRPr b="0" lang="en-US" sz="36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69640" y="1829880"/>
            <a:ext cx="856116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Parmi les 2,5 millions de personnes confrontées à l’illettrisme en France, on compte de nombreux parents et grands-parents 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qui ont beaucoup de difficultés à accompagner la scolarité de leurs enfants (et petits-enfants), à leur transmettre le goût de la lecture, l’appétit d’apprendre, le plaisir des livr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qui sont gênés dans le contact, la communication et les relations avec les institu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qui rencontrent des difficultés pour s’insérer socialement et professionnell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Espace réservé du numéro de diapositive 3"/>
          <p:cNvSpPr/>
          <p:nvPr/>
        </p:nvSpPr>
        <p:spPr>
          <a:xfrm>
            <a:off x="7588080" y="6356520"/>
            <a:ext cx="1098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1D278FF-96FE-47B4-9F05-23FE1D58713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64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Calibri"/>
              </a:rPr>
              <a:t>Les actions éducatives familiales : quels enjeux au service de la réussite éducative ?</a:t>
            </a:r>
            <a:br>
              <a:rPr sz="3600"/>
            </a:br>
            <a:br>
              <a:rPr sz="3600"/>
            </a:br>
            <a:r>
              <a:rPr b="0" lang="fr-FR" sz="36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79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Sensibiliser les professionnels intervenant en milieu « populaire »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à la problématique de l’illettrisme et à ses conséquences en matière de parentalit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Amener les professionnels à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 ajuster leurs pratiques 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pour travailler avec ces par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Mettre les parents en confiance et les mobiliser sur les apprentissages « de base » 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pour 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faciliter leur autonomie et leur propre développement personnel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contribuer à la prévention des difficultés de leurs enfa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Espace réservé du numéro de diapositive 3"/>
          <p:cNvSpPr/>
          <p:nvPr/>
        </p:nvSpPr>
        <p:spPr>
          <a:xfrm>
            <a:off x="7588080" y="6356520"/>
            <a:ext cx="1098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9486B6-6507-4654-B18C-DA4A922A609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57200" y="1741320"/>
            <a:ext cx="8229600" cy="35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Calibri"/>
              </a:rPr>
              <a:t>On distingue trois « paliers » constitutifs de la démarche AEF 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c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Calibri"/>
              </a:rPr>
              <a:t>Premier palier </a:t>
            </a: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: une action de sensibilisation / formation des acteurs professionnels aux thématiques liées à l’illettrisme et particulièrement à la parentalité en situation d’illettrism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c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Calibri"/>
              </a:rPr>
              <a:t>Deuxième palier </a:t>
            </a: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: une action de remobilisation + une orientation vers une réponse de formation dite de « droit commun »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c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Calibri"/>
              </a:rPr>
              <a:t>Troisième palier </a:t>
            </a: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: une action de remobilisation + une réponse spécifique de formation à visée parentale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oneTexte 3"/>
          <p:cNvSpPr/>
          <p:nvPr/>
        </p:nvSpPr>
        <p:spPr>
          <a:xfrm>
            <a:off x="225360" y="139680"/>
            <a:ext cx="8717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c00000"/>
                </a:solidFill>
                <a:latin typeface="Calibri"/>
              </a:rPr>
              <a:t>S’inscrire dans la démarche AEF: c’est possible quel que soit le point de départ, ça se construit étape après éta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Espace réservé du numéro de diapositive 4"/>
          <p:cNvSpPr/>
          <p:nvPr/>
        </p:nvSpPr>
        <p:spPr>
          <a:xfrm>
            <a:off x="7588080" y="6356520"/>
            <a:ext cx="1098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D6C1C7-8709-44DC-9694-AE8E4028083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Calibri"/>
              </a:rPr>
              <a:t>Les actions éducatives familiales : quelles modalités de mise en œuvre ?</a:t>
            </a:r>
            <a:br>
              <a:rPr sz="3600"/>
            </a:br>
            <a:r>
              <a:rPr b="0" lang="fr-FR" sz="36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Un exemple : « La démarche familles » de l’AFEV Nanter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Action = remobilisation + orientation vers une réponse de formation dite de « droit commun» (réponse de palier 2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Mobilisation des parents dont les enfants participent au dispositif « Accompagnement vers la lecture 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5 manifestations durant l’année scolaire : Noël + 3 ateliers contes + 1 spectacle de contes avec une compagnie de théât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Rencontres entre les acteurs de l’AFEV des Hauts de Seine et les parents, à l’occasion de la distribution en porte-à-porte, chaque mois, du Journal des Familles </a:t>
            </a:r>
            <a:r>
              <a:rPr b="0" i="1" lang="fr-FR" sz="2000" spc="-1" strike="noStrike">
                <a:solidFill>
                  <a:srgbClr val="000000"/>
                </a:solidFill>
                <a:latin typeface="Calibri"/>
              </a:rPr>
              <a:t>(Les parents potentiellement en situation d’illettrisme peuvent ensuite être accompagnés dans une démarche de formation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Espace réservé du numéro de diapositive 3"/>
          <p:cNvSpPr/>
          <p:nvPr/>
        </p:nvSpPr>
        <p:spPr>
          <a:xfrm>
            <a:off x="7588080" y="6356520"/>
            <a:ext cx="1098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914501-F97D-4ED8-8E79-CB5BAC9EFB8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Calibri"/>
              </a:rPr>
              <a:t>Les actions éducatives familiales : quelles modalités de mise en œuvre ? </a:t>
            </a:r>
            <a:br>
              <a:rPr sz="3600"/>
            </a:br>
            <a:endParaRPr b="0" lang="en-US" sz="36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Un exemple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: l’action du 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GRETA de Châlons-sur-Saôn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Action = remobilisation + réponse spécifique de formation à visée parentale (réponse de palier 3), autour de trois dimensions 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Une action de prévention de l’illettrisme dès l’enfan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Un accompagnement social et culturel des parents (place de chacun des parents, confiance dans leur capacité éducative, relation parents/enfants, éducation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Le développement des compétences clés des adultes par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Voir le film réalisé au GRE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Espace réservé du numéro de diapositive 3"/>
          <p:cNvSpPr/>
          <p:nvPr/>
        </p:nvSpPr>
        <p:spPr>
          <a:xfrm>
            <a:off x="7588080" y="6356520"/>
            <a:ext cx="1098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6DCD670-3292-49A0-9E61-4310B509CF6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04T08:01:17Z</dcterms:created>
  <dc:creator>Bruno LEFEBVRE</dc:creator>
  <dc:description/>
  <dc:language>en-US</dc:language>
  <cp:lastModifiedBy>Utilisateur</cp:lastModifiedBy>
  <dcterms:modified xsi:type="dcterms:W3CDTF">2013-11-08T18:06:55Z</dcterms:modified>
  <cp:revision>28</cp:revision>
  <dc:subject/>
  <dc:title>Présentation PowerPoint</dc:title>
</cp:coreProperties>
</file>