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B068D-6229-4226-90D4-A9B2C4C148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18AF6-FBD9-402A-81A6-755EF106A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B0C2C-DD28-4910-B436-67B0C658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473B2-79AE-4319-B1F0-A743F9DFF4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C8A05A-4508-4EDB-B086-C63022ECEB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000F16-A546-46A8-AB22-0DEAB5C76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C2FDAE-A41F-4316-89EE-B17D29F8E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D993E6-DA67-4B6A-9466-8A9F290FB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D23895-C007-410A-B806-C1437B100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FB85C2-910F-46ED-9D40-0DA694A8A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C38893-0FE6-49BE-9317-221AA70A1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0F851-540F-45D5-8B7A-4EBFC01FB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808DC4-BDB8-4A96-AFD9-EA3B15A3F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858AD2-2861-46A7-94FD-8E79A3A6A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AA09DE-C7C0-4A22-A5E7-26E63F42C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BEE998-1CBC-4F05-B1DD-8C276980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A9E0E8-6E70-4EFE-9275-495941611A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483DE-C8A5-4F2A-B4BE-0AD5F3705E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9E708-2331-4605-BC92-04F22E549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A2387-D6FD-4B1D-84A4-85DEB9330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597B3-21BA-4725-9006-D6AAD5B52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C7F63-C347-4C08-8D7A-25092876B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66094-F425-477C-9082-4AC73176A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1CA55-3CF2-4866-99D4-D35906FBF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2D8FB-FB9D-4B65-BBBC-CD901F02A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28F44-5CD0-494F-8E9D-7AF58CAF9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67D45-E93D-4C60-9760-5FD73F814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550E4-CDF1-4F1B-89AA-C22BD8752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CD4C1-5F08-4091-A69A-80E5D0C1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58598-3A02-4C00-98DC-C9B27062C6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39EFC-E036-4EA9-9050-BAE14FC1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42B50-B9BF-44F9-B94C-C15750696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7D2C2-C699-4F9B-84EE-300D38E93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22906-B136-446D-B6DF-B7B269661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9AECE-8C44-41FF-9D97-C97E4CE9D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FBE8D-E886-4904-838B-4DCA50C9D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484520" y="6356520"/>
            <a:ext cx="1393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14.1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C18D36-2DDE-4E7C-9AC7-B131A924B5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Connecteur droit 6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Image 4" descr="illettrisme_blocmarque_ppt.jpg"/>
          <p:cNvPicPr/>
          <p:nvPr/>
        </p:nvPicPr>
        <p:blipFill>
          <a:blip r:embed="rId2"/>
          <a:stretch/>
        </p:blipFill>
        <p:spPr>
          <a:xfrm>
            <a:off x="158760" y="6126120"/>
            <a:ext cx="3959280" cy="66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Connecteur droit 6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Image 4" descr="illettrisme_blocmarque_ppt.jpg"/>
          <p:cNvPicPr/>
          <p:nvPr/>
        </p:nvPicPr>
        <p:blipFill>
          <a:blip r:embed="rId2"/>
          <a:stretch/>
        </p:blipFill>
        <p:spPr>
          <a:xfrm>
            <a:off x="158760" y="6126120"/>
            <a:ext cx="3959280" cy="668520"/>
          </a:xfrm>
          <a:prstGeom prst="rect">
            <a:avLst/>
          </a:prstGeom>
          <a:ln w="0">
            <a:noFill/>
          </a:ln>
        </p:spPr>
      </p:pic>
      <p:sp>
        <p:nvSpPr>
          <p:cNvPr id="44" name="Connecteur droit 7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484520" y="6356520"/>
            <a:ext cx="1393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14.1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F5D0C3-FCA8-4B4B-9BA7-7A45B31C80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Connecteur droit 6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Image 4" descr="illettrisme_blocmarque_ppt.jpg"/>
          <p:cNvPicPr/>
          <p:nvPr/>
        </p:nvPicPr>
        <p:blipFill>
          <a:blip r:embed="rId2"/>
          <a:stretch/>
        </p:blipFill>
        <p:spPr>
          <a:xfrm>
            <a:off x="158760" y="6126120"/>
            <a:ext cx="3959280" cy="668520"/>
          </a:xfrm>
          <a:prstGeom prst="rect">
            <a:avLst/>
          </a:prstGeom>
          <a:ln w="0">
            <a:noFill/>
          </a:ln>
        </p:spPr>
      </p:pic>
      <p:sp>
        <p:nvSpPr>
          <p:cNvPr id="87" name="Connecteur droit 7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5"/>
          </p:nvPr>
        </p:nvSpPr>
        <p:spPr>
          <a:xfrm>
            <a:off x="4484520" y="6356520"/>
            <a:ext cx="1393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14.1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F99A71-8FE0-4BE6-91EE-865146B405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Image 2" descr="illettrisme_couv_pp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ZoneTexte 3"/>
          <p:cNvSpPr/>
          <p:nvPr/>
        </p:nvSpPr>
        <p:spPr>
          <a:xfrm>
            <a:off x="4043520" y="3306600"/>
            <a:ext cx="105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Novembre 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ZoneTexte 3"/>
          <p:cNvSpPr/>
          <p:nvPr/>
        </p:nvSpPr>
        <p:spPr>
          <a:xfrm>
            <a:off x="7786800" y="6458040"/>
            <a:ext cx="118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Novembre 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42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Calibri"/>
              </a:rPr>
              <a:t>LA DEMARCHE DES ACTIONS EDUCATIVES FAMILIALES</a:t>
            </a: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276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ENSIBILISER LES PROFESSIONNELS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E QUOI PARLE-T-ON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Espace réservé du numéro de diapositive 4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FA4720-475B-412F-96C4-85225432FB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Illettrisme : de quoi parle-t-on ?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Situation</a:t>
            </a:r>
            <a:r>
              <a:rPr b="0" lang="fr-FR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d’illettrisme :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elle d’un adulte qui a été scolarisé en France et qui n’a pas acquis une maîtrise suffisante des compétences de base pour être autonome dans les situations simples de la vie coura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Situation d’analphabétisme :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elle d’une personne qui n’a jamais (ou très peu) été scolarisée, en France ou ailleu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Situation de Français langue étrangère (FLE) :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elle d’une personne qui a été scolarisée dans un autre pays et qui ne maîtrise pas la langue frança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452BF6-A963-4BDB-A3CD-E71CF5D7CC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c00000"/>
                </a:solidFill>
                <a:latin typeface="Calibri"/>
              </a:rPr>
              <a:t>Combien de personnes concernées ?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8760" y="2491920"/>
            <a:ext cx="5261040" cy="24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c00000"/>
                </a:solidFill>
                <a:latin typeface="Calibri"/>
              </a:rPr>
              <a:t>2,5 millions de personnes </a:t>
            </a: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au niveau nat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Résultats enquête IVQ – INSEE – 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c00000"/>
                </a:solidFill>
                <a:latin typeface="Calibri"/>
              </a:rPr>
              <a:t>4,4 % des jeunes de 17 ans </a:t>
            </a: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au niveau national (métropole et DOM)</a:t>
            </a:r>
            <a:r>
              <a:rPr b="0" lang="fr-FR" sz="2000" spc="-1" strike="noStrike">
                <a:solidFill>
                  <a:srgbClr val="1f497d"/>
                </a:solidFill>
                <a:latin typeface="Calibri"/>
              </a:rPr>
              <a:t>, soit 32 267 jeun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Journée Défense et Citoyenneté 2012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14" descr="couv_brochure"/>
          <p:cNvPicPr/>
          <p:nvPr/>
        </p:nvPicPr>
        <p:blipFill>
          <a:blip r:embed="rId1"/>
          <a:stretch/>
        </p:blipFill>
        <p:spPr>
          <a:xfrm>
            <a:off x="5692680" y="1600200"/>
            <a:ext cx="3143520" cy="430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0" name="Espace réservé du numéro de diapositive 4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D0D5E5-2FC8-45A9-8D30-BD79861EAD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0000" y="144000"/>
            <a:ext cx="863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Les actions éducatives familiales : pourquoi ? 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69640" y="1829880"/>
            <a:ext cx="85611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Parmi les 2,5 millions de personnes confrontées à l’illettrisme en France, on compte de nombreux parents et grands-parents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qui ont beaucoup de difficultés à accompagner la scolarité de leurs enfants (et petits-enfants), à leur transmettre le goût de la lecture, l’appétit d’apprendre, le plaisir des liv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qui sont gênés dans le contact, la communication et les relations avec les institu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qui rencontrent des difficultés pour s’insérer socialement et professionnell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E08EF7-D32D-4403-8941-39CF127B29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64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Les actions éducatives familiales : quels enjeux au service de la réussite éducative 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9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Sensibiliser les professionnels intervenant en milieu « populaire »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à la problématique de l’illettrisme et à ses conséquences en matière de parentalit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mener les professionnels à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ajuster leurs pratiques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our travailler avec ces par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Mettre les parents en confiance et les mobiliser sur les apprentissages « de base »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our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faciliter leur autonomie et leur propre développement personne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ontribuer à la prévention des difficultés de leurs enfa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1270E6-CEE2-4A42-A1ED-C5A8B0A4AD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741320"/>
            <a:ext cx="8229600" cy="35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On distingue trois « paliers » constitutifs de la démarche AEF 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Premier palier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: une action de sensibilisation / formation des acteurs professionnels aux thématiques liées à l’illettrisme et particulièrement à la parentalité en situation d’illettris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Deuxième palier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: une action de remobilisation + une orientation vers une réponse de formation dite de « droit commun »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Troisième palier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: une action de remobilisation + une réponse spécifique de formation à visée parental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oneTexte 3"/>
          <p:cNvSpPr/>
          <p:nvPr/>
        </p:nvSpPr>
        <p:spPr>
          <a:xfrm>
            <a:off x="225360" y="139680"/>
            <a:ext cx="871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Calibri"/>
              </a:rPr>
              <a:t>S’inscrire dans la démarche AEF: c’est possible quel que soit le point de départ, ça se construit étape après ét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numéro de diapositive 4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09B4BD-2285-40B9-ACB9-6C6A35866D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Les actions éducatives familiales : quelles modalités de mise en œuvre ?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Un exemple : « La démarche familles » de l’AFEV Nanter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ction = remobilisation + orientation vers une réponse de formation dite de « droit commun» (réponse de palier 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obilisation des parents dont les enfants participent au dispositif « Accompagnement vers la lecture 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5 manifestations durant l’année scolaire : Noël + 3 ateliers contes + 1 spectacle de contes avec une compagnie de théât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Rencontres entre les acteurs de l’AFEV des Hauts de Seine et les parents, à l’occasion de la distribution en porte-à-porte, chaque mois, du Journal des Familles 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(Les parents potentiellement en situation d’illettrisme peuvent ensuite être accompagnés dans une démarche de format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0E740E-F0A8-4418-8BA2-643F6D766C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Les actions éducatives familiales : quelles modalités de mise en œuvre ? </a:t>
            </a:r>
            <a:br>
              <a:rPr sz="3600"/>
            </a:b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Un exemple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: l’action du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GRETA de Châlons-sur-Saô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ction = remobilisation + réponse spécifique de formation à visée parentale (réponse de palier 3), autour de trois dimensions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Une action de prévention de l’illettrisme dès l’enf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Un accompagnement social et culturel des parents (place de chacun des parents, confiance dans leur capacité éducative, relation parents/enfants, éducat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 développement des compétences clés des adultes par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Voir le film réalisé au GRE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0BBDEC-E24E-4736-B125-9281DC8967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4T08:01:17Z</dcterms:created>
  <dc:creator>Bruno LEFEBVRE</dc:creator>
  <dc:description/>
  <dc:language>en-US</dc:language>
  <cp:lastModifiedBy>Utilisateur</cp:lastModifiedBy>
  <dcterms:modified xsi:type="dcterms:W3CDTF">2013-11-08T18:06:55Z</dcterms:modified>
  <cp:revision>28</cp:revision>
  <dc:subject/>
  <dc:title>Présentation PowerPoint</dc:title>
</cp:coreProperties>
</file>